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54BAE-8B3D-4B42-8EBC-CC6F80719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6E965-75FC-4EBD-A820-0978FFDA0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A3F3C-90F1-4541-A397-773AB4651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7A77E-434D-4E92-9D66-102EF2EF8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DEDD9-F94B-4343-8548-3E580F17E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D0710-40C2-419D-95EA-5EA8D31F2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4798C-722C-4169-888D-29E93047D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CEFFF-F6E6-4743-A4AF-040BA2DED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BF6DA-3C54-4DDE-822E-C3BC2D59C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EB84B-2676-4035-9EF9-47FA1F793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B22E0-A0BC-45C6-ABA2-B089DEBFE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1A432-27AC-4C1D-B2E6-8FB5AFE9F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976BA-6A3F-4428-B609-7D4D8D2E9E4D}"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F8C1-E222-499D-B538-25F796AD490C}" type="slidenum">
              <a:rPr b="0" lang="en-I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3734-FB0A-4E30-B840-44D41B5CE695}" type="slidenum">
              <a:rPr b="0" lang="en-IN"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2" name="PlaceHolder 1"/>
          <p:cNvSpPr>
            <a:spLocks noGrp="1"/>
          </p:cNvSpPr>
          <p:nvPr>
            <p:ph type="title"/>
          </p:nvPr>
        </p:nvSpPr>
        <p:spPr>
          <a:xfrm>
            <a:off x="356760" y="500040"/>
            <a:ext cx="8358120" cy="310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r>
              <a:rPr b="1" lang="en-US" sz="2600" spc="-1" strike="noStrike">
                <a:solidFill>
                  <a:srgbClr val="000000"/>
                </a:solidFill>
                <a:latin typeface="Calibri"/>
              </a:rPr>
              <a:t>LIBRARY SERVICES AND USER NEEDS </a:t>
            </a:r>
            <a:br>
              <a:rPr sz="2600"/>
            </a:br>
            <a:r>
              <a:rPr b="1" lang="en-US" sz="2600" spc="-1" strike="noStrike">
                <a:solidFill>
                  <a:srgbClr val="000000"/>
                </a:solidFill>
                <a:latin typeface="Calibri"/>
              </a:rPr>
              <a:t>WITH REFERENCE TO ACADEMIC LIBRARIES</a:t>
            </a:r>
            <a:br>
              <a:rPr sz="2600"/>
            </a:br>
            <a:r>
              <a:rPr b="1" lang="en-US" sz="2600" spc="-1" strike="noStrike">
                <a:solidFill>
                  <a:srgbClr val="000000"/>
                </a:solidFill>
                <a:latin typeface="Calibri"/>
              </a:rPr>
              <a:t> </a:t>
            </a:r>
            <a:br>
              <a:rPr sz="2600"/>
            </a:br>
            <a:r>
              <a:rPr b="0" lang="en-US" sz="2600" spc="-1" strike="noStrike">
                <a:solidFill>
                  <a:srgbClr val="000000"/>
                </a:solidFill>
                <a:latin typeface="Calibri"/>
              </a:rPr>
              <a:t> </a:t>
            </a:r>
            <a:br>
              <a:rPr sz="2600"/>
            </a:br>
            <a:br>
              <a:rPr sz="2600"/>
            </a:br>
            <a:endParaRPr b="0" lang="en-US" sz="2600" spc="-1" strike="noStrike">
              <a:solidFill>
                <a:srgbClr val="000000"/>
              </a:solidFill>
              <a:latin typeface="Calibri"/>
            </a:endParaRPr>
          </a:p>
        </p:txBody>
      </p:sp>
      <p:sp>
        <p:nvSpPr>
          <p:cNvPr id="43" name="PlaceHolder 2"/>
          <p:cNvSpPr>
            <a:spLocks noGrp="1"/>
          </p:cNvSpPr>
          <p:nvPr>
            <p:ph type="subTitle"/>
          </p:nvPr>
        </p:nvSpPr>
        <p:spPr>
          <a:xfrm>
            <a:off x="1143000" y="3286080"/>
            <a:ext cx="6858000" cy="2643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8DD7-255B-4F7E-8518-AF9A9FD4E121}" type="slidenum">
              <a:rPr b="0" lang="en-IN"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brary vs. WWW: Librarians’ Initiative</a:t>
            </a:r>
            <a:endParaRPr b="0" lang="en-US" sz="3600" spc="-1" strike="noStrike">
              <a:solidFill>
                <a:srgbClr val="000000"/>
              </a:solidFill>
              <a:latin typeface="Calibri"/>
            </a:endParaRPr>
          </a:p>
        </p:txBody>
      </p:sp>
      <p:sp>
        <p:nvSpPr>
          <p:cNvPr id="72" name=""/>
          <p:cNvSpPr txBox="1"/>
          <p:nvPr/>
        </p:nvSpPr>
        <p:spPr>
          <a:xfrm>
            <a:off x="0" y="1052640"/>
            <a:ext cx="9144000" cy="5400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rary supplies information to its users long befor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present users’ needs librarians have to adopt computer technology for library oper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rarians should have idea of hardware &amp; software that may keep current for a long period of tim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rary and librarian should always be supported by the higher authority, as they are trying to provide best services for the institutional beneficiari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 provision for upgrading software, hardware &amp; workstations which is require to keep the library as a perfect system and successful organiz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47EC-63F8-4CC1-9007-B56273FA0ED4}" type="slidenum">
              <a:rPr b="0" lang="en-IN"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ademic libraries &amp; their daily functioning and extending services</a:t>
            </a:r>
            <a:endParaRPr b="0" lang="en-US" sz="3600" spc="-1" strike="noStrike">
              <a:solidFill>
                <a:srgbClr val="000000"/>
              </a:solidFill>
              <a:latin typeface="Calibri"/>
            </a:endParaRPr>
          </a:p>
        </p:txBody>
      </p:sp>
      <p:sp>
        <p:nvSpPr>
          <p:cNvPr id="75" name="PlaceHolder 2"/>
          <p:cNvSpPr>
            <a:spLocks noGrp="1"/>
          </p:cNvSpPr>
          <p:nvPr>
            <p:ph/>
          </p:nvPr>
        </p:nvSpPr>
        <p:spPr>
          <a:xfrm>
            <a:off x="0" y="1371600"/>
            <a:ext cx="9144000" cy="5029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ditional libraries mostly depends on indexing &amp; catalogu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ew environment librarians are always attempted to reach all its users and to serve better way to the user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e to fast development of IT and its application to libraries new styles are adopting by academic libraries for their daily function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ademic libraries are extending services to its end users, but It is difficult to serve library users' needs because the sources of information are too complex, so extensive and so vari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0830-39F1-46F7-A145-B892ECC916CB}" type="slidenum">
              <a:rPr b="0" lang="en-IN"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468000" y="-171360"/>
            <a:ext cx="8218440" cy="8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ademic Library Service Strategies</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78" name=""/>
          <p:cNvSpPr txBox="1"/>
          <p:nvPr/>
        </p:nvSpPr>
        <p:spPr>
          <a:xfrm>
            <a:off x="0" y="713880"/>
            <a:ext cx="9144000" cy="5929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nge becomes a way of life for library &amp; information fiel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t the core functions of libraries – providing an organized collection of materials and providing assistance in using those materials – remain the same, how libraries fulfill those functions is being transform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chnological advances make it possible for libraries to provide access to a wide range of materials that no single library ow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braries can serve customers from around the world as early as they serve the patorns who enter their building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roved academic library environment is beyond sole control of librarians. It would be joint venture of librarians, library planners, professional bodies, NGO and Govern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CD20-6AF0-476B-BE7F-4A4C15CD5A25}" type="slidenum">
              <a:rPr b="0" lang="en-IN"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velop Academic Library Services</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81" name="PlaceHolder 2"/>
          <p:cNvSpPr>
            <a:spLocks noGrp="1"/>
          </p:cNvSpPr>
          <p:nvPr>
            <p:ph/>
          </p:nvPr>
        </p:nvSpPr>
        <p:spPr>
          <a:xfrm>
            <a:off x="457200" y="1218960"/>
            <a:ext cx="8229600" cy="5257800"/>
          </a:xfrm>
          <a:prstGeom prst="rect">
            <a:avLst/>
          </a:prstGeom>
          <a:noFill/>
          <a:ln w="0">
            <a:noFill/>
          </a:ln>
        </p:spPr>
        <p:txBody>
          <a:bodyPr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ew environment due to increasing complexity user's expertise are needed; </a:t>
            </a:r>
            <a:endParaRPr b="0" lang="en-US" sz="2800" spc="-1" strike="noStrike">
              <a:solidFill>
                <a:srgbClr val="000000"/>
              </a:solidFill>
              <a:latin typeface="Calibri"/>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improve the users’ expertise academic libraries should accept the following:</a:t>
            </a:r>
            <a:endParaRPr b="0" lang="en-US" sz="2800" spc="-1" strike="noStrike">
              <a:solidFill>
                <a:srgbClr val="000000"/>
              </a:solidFill>
              <a:latin typeface="Calibri"/>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User education</a:t>
            </a:r>
            <a:r>
              <a:rPr b="0" lang="en-US" sz="2800" spc="-1" strike="noStrike">
                <a:solidFill>
                  <a:srgbClr val="000000"/>
                </a:solidFill>
                <a:latin typeface="Calibri"/>
              </a:rPr>
              <a:t>. </a:t>
            </a:r>
            <a:endParaRPr b="0" lang="en-US" sz="2800" spc="-1" strike="noStrike">
              <a:solidFill>
                <a:srgbClr val="000000"/>
              </a:solidFill>
              <a:latin typeface="Calibri"/>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dvice</a:t>
            </a:r>
            <a:r>
              <a:rPr b="0" lang="en-US" sz="2800" spc="-1" strike="noStrike">
                <a:solidFill>
                  <a:srgbClr val="000000"/>
                </a:solidFill>
                <a:latin typeface="Calibri"/>
              </a:rPr>
              <a:t>. </a:t>
            </a:r>
            <a:endParaRPr b="0" lang="en-US" sz="2800" spc="-1" strike="noStrike">
              <a:solidFill>
                <a:srgbClr val="000000"/>
              </a:solidFill>
              <a:latin typeface="Calibri"/>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implification</a:t>
            </a:r>
            <a:r>
              <a:rPr b="0" lang="en-US" sz="2800" spc="-1" strike="noStrike">
                <a:solidFill>
                  <a:srgbClr val="000000"/>
                </a:solidFill>
                <a:latin typeface="Calibri"/>
              </a:rPr>
              <a:t>. </a:t>
            </a:r>
            <a:endParaRPr b="0" lang="en-US" sz="2800" spc="-1" strike="noStrike">
              <a:solidFill>
                <a:srgbClr val="000000"/>
              </a:solidFill>
              <a:latin typeface="Calibri"/>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Mediation</a:t>
            </a:r>
            <a:r>
              <a:rPr b="0" lang="en-US" sz="2800" spc="-1" strike="noStrike">
                <a:solidFill>
                  <a:srgbClr val="000000"/>
                </a:solidFill>
                <a:latin typeface="Calibri"/>
              </a:rPr>
              <a:t>. </a:t>
            </a:r>
            <a:endParaRPr b="0" lang="en-US" sz="2800" spc="-1" strike="noStrike">
              <a:solidFill>
                <a:srgbClr val="000000"/>
              </a:solidFill>
              <a:latin typeface="Calibri"/>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Delegation</a:t>
            </a:r>
            <a:r>
              <a:rPr b="0" lang="en-US" sz="2800" spc="-1" strike="noStrike">
                <a:solidFill>
                  <a:srgbClr val="000000"/>
                </a:solidFill>
                <a:latin typeface="Calibri"/>
              </a:rPr>
              <a:t>. </a:t>
            </a:r>
            <a:endParaRPr b="0" lang="en-US" sz="2800" spc="-1" strike="noStrike">
              <a:solidFill>
                <a:srgbClr val="000000"/>
              </a:solidFill>
              <a:latin typeface="Calibri"/>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makes the library system itself smarter, more capable of determining what should be done next, and thus increases the expertise of library user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34FB-93D8-42DD-A8AA-FF279C340CF5}" type="slidenum">
              <a:rPr b="0" lang="en-IN"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L</a:t>
            </a:r>
            <a:r>
              <a:rPr b="0" lang="en-US" sz="3600" spc="-1" strike="noStrike">
                <a:solidFill>
                  <a:srgbClr val="000000"/>
                </a:solidFill>
                <a:latin typeface="Calibri"/>
              </a:rPr>
              <a:t>ibrary Services for the users</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rarians  always attempt to reach all its users by providing the following service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Assistance serv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struction serv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ferral serv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0C5C6-4F11-4630-A4FE-FE7D13CB46F7}" type="slidenum">
              <a:rPr b="0" lang="en-IN"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14256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sistance services</a:t>
            </a:r>
            <a:endParaRPr b="0" lang="en-US" sz="3600" spc="-1" strike="noStrike">
              <a:solidFill>
                <a:srgbClr val="000000"/>
              </a:solidFill>
              <a:latin typeface="Calibri"/>
            </a:endParaRPr>
          </a:p>
        </p:txBody>
      </p:sp>
      <p:sp>
        <p:nvSpPr>
          <p:cNvPr id="87" name=""/>
          <p:cNvSpPr txBox="1"/>
          <p:nvPr/>
        </p:nvSpPr>
        <p:spPr>
          <a:xfrm>
            <a:off x="0" y="1341000"/>
            <a:ext cx="9144000" cy="5373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help users, to identify &amp; locate needed material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materials, bibliographic tools are complex to use, and needs interpretation for using such tool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chine-readable data bases are searched on-line; and CD-ROMs inside library. But using systems are different and librarians provide required assistanc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rary should develop an environment where users can intuit that they are in a hub, which can expose plenty intellectual and informational resourc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in the place of convergence, where users set them apart from other information provid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3CC6-4D20-45AE-8FCD-A770DB4F12A8}" type="slidenum">
              <a:rPr b="0" lang="en-IN"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PlaceHolder 1"/>
          <p:cNvSpPr>
            <a:spLocks noGrp="1"/>
          </p:cNvSpPr>
          <p:nvPr>
            <p:ph type="title"/>
          </p:nvPr>
        </p:nvSpPr>
        <p:spPr>
          <a:xfrm>
            <a:off x="457200" y="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ruction services</a:t>
            </a:r>
            <a:endParaRPr b="0" lang="en-US" sz="3600" spc="-1" strike="noStrike">
              <a:solidFill>
                <a:srgbClr val="000000"/>
              </a:solidFill>
              <a:latin typeface="Calibri"/>
            </a:endParaRPr>
          </a:p>
        </p:txBody>
      </p:sp>
      <p:sp>
        <p:nvSpPr>
          <p:cNvPr id="90" name=""/>
          <p:cNvSpPr txBox="1"/>
          <p:nvPr/>
        </p:nvSpPr>
        <p:spPr>
          <a:xfrm>
            <a:off x="0" y="642960"/>
            <a:ext cx="9144000" cy="6215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raries using instruction "orientation", a guided tour, to familiarize students with layout of library building and location of various resources and servic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rary instructions "point-of-use", indicating use of bibliographic tools, indexing and abstracting services; video-tape, audio tape, and slide-tape presentation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ntegrates students’ class educational experience and library as gateway of information resour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interact with information resources as directed by faculty to complete their assign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study with peer and extend their knowledge in self-directed way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rning in library, makes changes in students’ liv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A6115-7C0B-4D73-9C48-D7B6229BC05A}" type="slidenum">
              <a:rPr b="0" lang="en-IN"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610920" y="-360"/>
            <a:ext cx="780084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ferral services</a:t>
            </a:r>
            <a:endParaRPr b="0" lang="en-US" sz="3600" spc="-1" strike="noStrike">
              <a:solidFill>
                <a:srgbClr val="000000"/>
              </a:solidFill>
              <a:latin typeface="Calibri"/>
            </a:endParaRPr>
          </a:p>
        </p:txBody>
      </p:sp>
      <p:sp>
        <p:nvSpPr>
          <p:cNvPr id="93" name="PlaceHolder 2"/>
          <p:cNvSpPr>
            <a:spLocks noGrp="1"/>
          </p:cNvSpPr>
          <p:nvPr>
            <p:ph/>
          </p:nvPr>
        </p:nvSpPr>
        <p:spPr>
          <a:xfrm>
            <a:off x="0" y="981000"/>
            <a:ext cx="9144000" cy="561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is  service refers one user to another library, more specialized library, librarian, or other exper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 is referring a library user to another more appropriate resource centr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brary use and bibliographic research are complex and becoming more so.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 it is necessary to know to whom or to where a referral can be made with a reasonable chance of succes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development of detailed knowledge of resources is necessary for referral to work effectively.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greater investment in user education will be needed to ensure that effective use is made of library resources, including the resources of all cooperating librar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483E-6049-4717-8FFA-B489211E23AC}" type="slidenum">
              <a:rPr b="0" lang="en-IN"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 </a:t>
            </a:r>
            <a:endParaRPr b="0" lang="en-US" sz="4400" spc="-1" strike="noStrike">
              <a:solidFill>
                <a:srgbClr val="000000"/>
              </a:solidFill>
              <a:latin typeface="Calibri"/>
            </a:endParaRPr>
          </a:p>
        </p:txBody>
      </p:sp>
      <p:sp>
        <p:nvSpPr>
          <p:cNvPr id="96" name="PlaceHolder 2"/>
          <p:cNvSpPr>
            <a:spLocks noGrp="1"/>
          </p:cNvSpPr>
          <p:nvPr>
            <p:ph/>
          </p:nvPr>
        </p:nvSpPr>
        <p:spPr>
          <a:xfrm>
            <a:off x="152280" y="1052640"/>
            <a:ext cx="8839440" cy="5424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greater emphasis in user education is needed, which ensure the effective use of Paper, Automated, and Electronic Librari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ological advancement empowers libraries to offer improved customer-driven service opportunities in  physical library or crossing the physical library over the glob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rarians of the academic libraries have to involve continuously in library development  processes, and to keep pace with the changing needs of their user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will help academic librarians to adopt new things to the library, that keep service offerings fresh to the academic communit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6544-8F7C-44E2-ADE4-D35C249E11B0}" type="slidenum">
              <a:rPr b="0" lang="en-IN"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PlaceHolder 1"/>
          <p:cNvSpPr>
            <a:spLocks noGrp="1"/>
          </p:cNvSpPr>
          <p:nvPr>
            <p:ph type="title"/>
          </p:nvPr>
        </p:nvSpPr>
        <p:spPr>
          <a:xfrm>
            <a:off x="428760" y="1214280"/>
            <a:ext cx="8229600" cy="414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Thank you all</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24FBA-1974-4904-942E-5C1AFB2B9E44}" type="slidenum">
              <a:rPr b="0" lang="en-IN"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5"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ibrary</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46" name=""/>
          <p:cNvSpPr txBox="1"/>
          <p:nvPr/>
        </p:nvSpPr>
        <p:spPr>
          <a:xfrm>
            <a:off x="250920" y="1268280"/>
            <a:ext cx="8572320" cy="5283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Library’ is an establishment or public institution; it has a building, room, or set of rooms;  contains collection of books and other documents; takes care of its collection; makes arrangement to access documents who require to use them.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ibrary serves for  the public or members of the socie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library has five components: a) physical space; b) collection of materials; c) maintenance of collection; d) user group; and e) provision of accessibilit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6D4B-A86E-444D-BED7-A68AA231F63F}" type="slidenum">
              <a:rPr b="0" lang="en-IN"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48" name="PlaceHolder 1"/>
          <p:cNvSpPr>
            <a:spLocks noGrp="1"/>
          </p:cNvSpPr>
          <p:nvPr>
            <p:ph type="title"/>
          </p:nvPr>
        </p:nvSpPr>
        <p:spPr>
          <a:xfrm>
            <a:off x="1785960" y="5785920"/>
            <a:ext cx="5486400" cy="71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1" lang="en-US" sz="2000" spc="-1" strike="noStrike">
                <a:solidFill>
                  <a:srgbClr val="000000"/>
                </a:solidFill>
                <a:latin typeface="Calibri"/>
              </a:rPr>
              <a:t>Model - : Library and its basic components</a:t>
            </a:r>
            <a:endParaRPr b="0" lang="en-US" sz="2000" spc="-1" strike="noStrike">
              <a:solidFill>
                <a:srgbClr val="000000"/>
              </a:solidFill>
              <a:latin typeface="Calibri"/>
            </a:endParaRPr>
          </a:p>
        </p:txBody>
      </p:sp>
      <p:pic>
        <p:nvPicPr>
          <p:cNvPr id="49" name="Picture Placeholder 4" descr="Model - Library and its basic components.png"/>
          <p:cNvPicPr/>
          <p:nvPr/>
        </p:nvPicPr>
        <p:blipFill>
          <a:blip r:embed="rId1"/>
          <a:srcRect l="85" t="0" r="85" b="0"/>
          <a:stretch/>
        </p:blipFill>
        <p:spPr>
          <a:xfrm>
            <a:off x="714240" y="0"/>
            <a:ext cx="7572600" cy="5643720"/>
          </a:xfrm>
          <a:prstGeom prst="rect">
            <a:avLst/>
          </a:prstGeom>
          <a:ln w="0">
            <a:noFill/>
          </a:ln>
        </p:spPr>
      </p:pic>
      <p:sp>
        <p:nvSpPr>
          <p:cNvPr id="50" name="PlaceHolder 2"/>
          <p:cNvSpPr>
            <a:spLocks noGrp="1"/>
          </p:cNvSpPr>
          <p:nvPr>
            <p:ph/>
          </p:nvPr>
        </p:nvSpPr>
        <p:spPr>
          <a:xfrm>
            <a:off x="1785960" y="5857920"/>
            <a:ext cx="5486400" cy="7142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65346-30B9-473F-8243-537D6E28DB49}" type="slidenum">
              <a:rPr b="0" lang="en-IN"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2"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ibrary Clientele</a:t>
            </a:r>
            <a:endParaRPr b="0" lang="en-US" sz="3600" spc="-1" strike="noStrike">
              <a:solidFill>
                <a:srgbClr val="000000"/>
              </a:solidFill>
              <a:latin typeface="Calibri"/>
            </a:endParaRPr>
          </a:p>
        </p:txBody>
      </p:sp>
      <p:sp>
        <p:nvSpPr>
          <p:cNvPr id="53" name=""/>
          <p:cNvSpPr txBox="1"/>
          <p:nvPr/>
        </p:nvSpPr>
        <p:spPr>
          <a:xfrm>
            <a:off x="285840" y="1125000"/>
            <a:ext cx="8572320" cy="5543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past days treasures of knowledge  remained hidden from the masses, stored under tight security and accessible only to privileged class people, viz. monks and their disciple, kings and their courtiers, riches, profound scholars, etc.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ment of academic institutions opened the door of library to large scale of people, viz. general students, teachers, scholars and other privileged class of peop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rary for general public has been established only before 150 year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BFD9-5742-4F90-85E0-8E39C94102F6}" type="slidenum">
              <a:rPr b="0" lang="en-IN"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5" name="PlaceHolder 1"/>
          <p:cNvSpPr>
            <a:spLocks noGrp="1"/>
          </p:cNvSpPr>
          <p:nvPr>
            <p:ph type="title"/>
          </p:nvPr>
        </p:nvSpPr>
        <p:spPr>
          <a:xfrm>
            <a:off x="468000" y="274320"/>
            <a:ext cx="821844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 </a:t>
            </a:r>
            <a:r>
              <a:rPr b="0" lang="en-US" sz="3600" spc="-1" strike="noStrike">
                <a:solidFill>
                  <a:srgbClr val="000000"/>
                </a:solidFill>
                <a:latin typeface="Calibri"/>
              </a:rPr>
              <a:t>Library Influenced by Clientele</a:t>
            </a:r>
            <a:br>
              <a:rPr sz="3600"/>
            </a:br>
            <a:endParaRPr b="0" lang="en-US" sz="3600" spc="-1" strike="noStrike">
              <a:solidFill>
                <a:srgbClr val="000000"/>
              </a:solidFill>
              <a:latin typeface="Calibri"/>
            </a:endParaRPr>
          </a:p>
        </p:txBody>
      </p:sp>
      <p:sp>
        <p:nvSpPr>
          <p:cNvPr id="56" name=""/>
          <p:cNvSpPr txBox="1"/>
          <p:nvPr/>
        </p:nvSpPr>
        <p:spPr>
          <a:xfrm>
            <a:off x="285840" y="1052640"/>
            <a:ext cx="8572320" cy="568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ny country, the development of library has depended on the advancement of social process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rary developed &amp; improved to satisfy the needs of the user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Libraries are not only repositories of knowledge but also dispensers of such knowledg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If libraries are ignored, the study as a whole will suffer, because teaching and research are mostly depend upon the qualitative and quantitative service rendered by the librar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Students, teachers and researchers much depend on their librar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77767-4CCA-483A-BCB1-9A4471A95617}" type="slidenum">
              <a:rPr b="0" lang="en-IN"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457200" y="142560"/>
            <a:ext cx="8229600" cy="127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000000"/>
                </a:solidFill>
                <a:latin typeface="Calibri"/>
              </a:rPr>
              <a:t>Targeted objectives of university libraries to serve its clientele</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59" name=""/>
          <p:cNvSpPr txBox="1"/>
          <p:nvPr/>
        </p:nvSpPr>
        <p:spPr>
          <a:xfrm>
            <a:off x="0" y="1699920"/>
            <a:ext cx="9144000" cy="5157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give continuing support to the teaching and learning programme and provide impetus to educational chan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nsure maximum access to the widest possible range of resources and serv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quip students with basic skills to obtain and use wide range of resources and serv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lead them (students) towards a lifetime use of libraries for recreation, information and continuing educ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0D280-FFD7-45B0-91CB-9E00EAC99DA3}" type="slidenum">
              <a:rPr b="0" lang="en-IN"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1" name="PlaceHolder 1"/>
          <p:cNvSpPr>
            <a:spLocks noGrp="1"/>
          </p:cNvSpPr>
          <p:nvPr>
            <p:ph type="title"/>
          </p:nvPr>
        </p:nvSpPr>
        <p:spPr>
          <a:xfrm>
            <a:off x="0" y="-360"/>
            <a:ext cx="91440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000000"/>
                </a:solidFill>
                <a:latin typeface="Calibri"/>
              </a:rPr>
              <a:t>Users’ Need &amp; Expectation</a:t>
            </a:r>
            <a:r>
              <a:rPr b="0" lang="en-US" sz="4400" spc="-1" strike="noStrike">
                <a:solidFill>
                  <a:srgbClr val="000000"/>
                </a:solidFill>
                <a:latin typeface="Calibri"/>
              </a:rPr>
              <a:t> </a:t>
            </a:r>
            <a:br>
              <a:rPr sz="4800"/>
            </a:br>
            <a:endParaRPr b="0" lang="en-US" sz="4400" spc="-1" strike="noStrike">
              <a:solidFill>
                <a:srgbClr val="000000"/>
              </a:solidFill>
              <a:latin typeface="Calibri"/>
            </a:endParaRPr>
          </a:p>
        </p:txBody>
      </p:sp>
      <p:sp>
        <p:nvSpPr>
          <p:cNvPr id="62" name=""/>
          <p:cNvSpPr txBox="1"/>
          <p:nvPr/>
        </p:nvSpPr>
        <p:spPr>
          <a:xfrm>
            <a:off x="0" y="1052280"/>
            <a:ext cx="4495680" cy="5616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brary users need to search: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physical library catalog, including incomplete or under process materials, circulation records, etc.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lding records of local, nearby &amp; distant librari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bliographies of paper items, on microform, or on-line ite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umeric data in social, technical, economic, and scientific databases. </a:t>
            </a:r>
            <a:endParaRPr b="0" lang="en-US" sz="2400" spc="-1" strike="noStrike">
              <a:solidFill>
                <a:srgbClr val="000000"/>
              </a:solidFill>
              <a:latin typeface="Calibri"/>
            </a:endParaRPr>
          </a:p>
        </p:txBody>
      </p:sp>
      <p:sp>
        <p:nvSpPr>
          <p:cNvPr id="63" name=""/>
          <p:cNvSpPr txBox="1"/>
          <p:nvPr/>
        </p:nvSpPr>
        <p:spPr>
          <a:xfrm>
            <a:off x="4648320" y="981000"/>
            <a:ext cx="4495680" cy="5688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rectories and reference work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ages and moving imag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texts itself.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ull-text that remains in on-line and not physically in libra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library with comfort as corporate house provided to its custom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venient use of needed datasets and having copy of them.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6C9F-266C-4903-A676-29F949F3131C}" type="slidenum">
              <a:rPr b="0" lang="en-IN"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14256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000000"/>
                </a:solidFill>
                <a:latin typeface="Calibri"/>
              </a:rPr>
              <a:t> </a:t>
            </a:r>
            <a:r>
              <a:rPr b="0" lang="en-US" sz="3600" spc="-1" strike="noStrike">
                <a:solidFill>
                  <a:srgbClr val="000000"/>
                </a:solidFill>
                <a:latin typeface="Calibri"/>
              </a:rPr>
              <a:t>WWW thrown challenge to Library</a:t>
            </a:r>
            <a:br>
              <a:rPr sz="3600"/>
            </a:br>
            <a:endParaRPr b="0" lang="en-US" sz="3600" spc="-1" strike="noStrike">
              <a:solidFill>
                <a:srgbClr val="000000"/>
              </a:solidFill>
              <a:latin typeface="Calibri"/>
            </a:endParaRPr>
          </a:p>
        </p:txBody>
      </p:sp>
      <p:sp>
        <p:nvSpPr>
          <p:cNvPr id="66" name=""/>
          <p:cNvSpPr txBox="1"/>
          <p:nvPr/>
        </p:nvSpPr>
        <p:spPr>
          <a:xfrm>
            <a:off x="457200" y="980640"/>
            <a:ext cx="8229600" cy="5519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raries are now facing competition from Internet and the World Wide Web.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teachers and other users of the library try to get information through the Internet first, and then they are coming to library for detail checking of required inform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y satisfy with the first information, they may not come to library physicall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libraries and the librarians need to develop plans how to face the new competition and to remain active to provide library services to the new generation user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24D2-23CF-401D-91F7-9CF6CDD90201}" type="slidenum">
              <a:rPr b="0" lang="en-IN"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PlaceHolder 1"/>
          <p:cNvSpPr>
            <a:spLocks noGrp="1"/>
          </p:cNvSpPr>
          <p:nvPr>
            <p:ph type="title"/>
          </p:nvPr>
        </p:nvSpPr>
        <p:spPr>
          <a:xfrm>
            <a:off x="395280" y="189000"/>
            <a:ext cx="82915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brary vs. WWW: The Real Situation</a:t>
            </a:r>
            <a:endParaRPr b="0" lang="en-US" sz="3600" spc="-1" strike="noStrike">
              <a:solidFill>
                <a:srgbClr val="000000"/>
              </a:solidFill>
              <a:latin typeface="Calibri"/>
            </a:endParaRPr>
          </a:p>
        </p:txBody>
      </p:sp>
      <p:sp>
        <p:nvSpPr>
          <p:cNvPr id="69" name=""/>
          <p:cNvSpPr txBox="1"/>
          <p:nvPr/>
        </p:nvSpPr>
        <p:spPr>
          <a:xfrm>
            <a:off x="214200" y="1341000"/>
            <a:ext cx="8715600" cy="5302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want to take advantages of online world, but not at the expense of the physical mater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searching is not the only solution to have the knowledge but verification is urg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recognize the value of shared, communal spaces where they can work by themsel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raries are currently capable of creating and maintaining value added inform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wants to come to physical library that serves as symbols of certain shared, trusted and sacred valu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0T11:38:47Z</dcterms:created>
  <dc:creator>Personal</dc:creator>
  <dc:description/>
  <dc:language>en-US</dc:language>
  <cp:lastModifiedBy>hhdk</cp:lastModifiedBy>
  <cp:lastPrinted>2018-05-23T04:32:55Z</cp:lastPrinted>
  <dcterms:modified xsi:type="dcterms:W3CDTF">2018-05-23T04:35:19Z</dcterms:modified>
  <cp:revision>100</cp:revision>
  <dc:subject/>
  <dc:title>LIBRARY SERVICES AND USER NEEDs  WITH REFERENCE TO ACADEMIC LIBRARIES</dc:title>
</cp:coreProperties>
</file>